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12.png" ContentType="image/png"/>
  <Override PartName="/ppt/media/image21.png" ContentType="image/pn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20.jpeg" ContentType="image/jpeg"/>
  <Override PartName="/ppt/media/image22.jpeg" ContentType="image/jpeg"/>
  <Override PartName="/ppt/media/image9.png" ContentType="image/png"/>
  <Override PartName="/ppt/media/image36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28.png" ContentType="image/png"/>
  <Override PartName="/ppt/media/image30.png" ContentType="image/png"/>
  <Override PartName="/ppt/media/image14.png" ContentType="image/png"/>
  <Override PartName="/ppt/media/image10.jpeg" ContentType="image/jpeg"/>
  <Override PartName="/ppt/media/image5.png" ContentType="image/png"/>
  <Override PartName="/ppt/media/image35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7531-F892-423B-910D-7652AB8B7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637A-4DB6-417A-8803-C882BC11C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5035E7-8E27-4945-BC84-9ACC7C3E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4AA6D-A91A-4D02-A5F3-DDECBA6F3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D2700D-2979-4EF6-BA84-B22CEDC62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A9927C-90E8-4BBA-A131-B4A9951B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648D4-432B-422F-BDBF-73582AE4D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BDE1A9-BC03-4A1F-9084-CF0A04FF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3D780C-0E34-487A-A9D1-BFEF7118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DA66C-E037-4B83-8691-0AFFD3FD2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4EE486-9245-4074-A803-6043D9ACF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8FB124-C71F-4879-87FD-1A868B552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B74F-F91F-406B-98C1-F07D62D24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7910F9-CEC8-401E-886E-7537F7F29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3B6DB-ED95-45FD-A181-5DED0BCA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662058-74FE-48ED-9060-90BEB43B7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708881-4CAC-4A40-9F1B-FC4C5042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09B633-22A4-4EB0-9606-DB7C265A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67F3DD-8998-4ECB-BB3F-0C48623D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992A36-7653-4D88-AE6B-7840001D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EEB99-06E2-4352-99BC-C4B3F220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0DFA6-A5D8-4790-B8B1-0E81D460E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13935F-102C-44AB-9F3C-7B601BA2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88AA-FDC5-4883-932C-2224B01C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8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29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37428A-3ED2-4E22-965B-E3406370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9C873-1854-4DE4-B45E-DD68EBBD0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64D59-2FC4-4AA3-B092-170148701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284A5C-7F07-45B4-9D33-EF93300C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6C0256-B8B5-4168-962E-5323A232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6B2406-43AA-4C59-8490-B127571A1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636B-0647-4973-B6BA-C27BC4C77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01ABC7-3A70-4772-B053-33F5BD07D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6DF18-D707-42B9-A4C6-C09D00E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DBB671-D46B-4C33-87E1-159BE2AC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5B418-4AF5-4BF7-8D22-428CA35C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E6D1D3-12F0-457F-9C91-807C18056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897FBD-B7E0-47B0-8499-8BE570A51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A5207-E284-4CA0-A328-CB968B373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563722-FA56-4A71-BFF7-2882C476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85563A-B1D8-4598-AECD-75A7C7845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80792F-4E7D-454E-92A5-41777F1F4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57FE0A-967F-4A10-97C3-4E488AA79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87E54A-78BB-4158-B380-41BB76A11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B4047C-5C7F-48C5-A599-A95F7884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CB930C-BE5E-43D5-AF31-DD8A7D550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F3701-AB99-4EA3-A49D-89C92832C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2A136D-8AEA-426D-81A4-12CF2AEB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1B7F09-A53A-4125-BC9F-A2C294AF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D41BE-071C-4977-A106-893B0990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216A3-5E5E-4693-8264-D18FD1CE4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A22A4D-DB11-4889-8B79-14EFDEB73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B157-CB0B-44BC-A91F-50E16B161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9EB4-F242-41D3-A483-F93DA30EE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E9388-65BA-4211-B970-B1E413ED5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F2F56-9EED-4220-8AB6-1941E3FB1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0120C-D3FA-485A-80EC-C74A63A29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B193-2489-47CC-801D-D3BBE5E0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CCA45-3916-4AAC-8F93-2ED5EC87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DF479-FB77-4A1A-88BC-659B6CA7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42441-E7D5-4419-B043-0F4A354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6EE00-6E9E-4D20-88DC-C5749603A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1735-863A-4891-A30E-A43C92914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AF99-E292-49B3-B948-74EFD6C1F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F6DB75-9994-45B9-B9AB-6B01DD07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09FC6-CFC5-4511-93FC-B91971D1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B18F7-F86D-4988-9212-BF4862648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DE937-F235-4089-A420-A429B1DE8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9096-AD75-4F4A-8C9C-4CA3CD746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55B99-2028-4BC3-91A1-1700CFD3C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9892C-5C92-430F-A102-99623169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828A9B-2E15-420E-A67A-16E37FB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FA417-602F-4F9D-96F8-7CA60CF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5E94E-A773-4E2B-A32D-D00297E04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6745D-F873-4522-B198-BE9BEDE05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3C64F-A77E-45A3-8A31-D1B45CC3B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607A9-0CF6-4C67-A851-87DCAD679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8B731-2BFD-4133-972F-52CB1600A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9B454B-52C9-4609-8422-4BA5C325A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910AB-F7C0-4A8B-AD77-56B3BBC0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25983-CC26-411B-BFB5-F983A919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D6C5E4-99D9-45B4-9FC8-CD651042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0D35C0-E029-49BD-A883-C018A836B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843BC-3A84-4729-813E-ABD6D660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F8670-E07D-43F4-B79A-56C79E94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AF4E8-F9EA-4812-AC46-B8E64200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38F93-47B7-4D8D-96F4-BF38ACD1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BEC7D8-DE68-4D87-9F93-7DF6EE79F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13C48-63F9-4106-B08F-94D0DD46F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E995A-7ECE-400F-81DC-B7E9C0ED1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6395-06FB-4110-B03C-2319DBFF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8DF81-1128-4D96-B92C-80C1A4D5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63F96-C91F-42AD-B5A2-B17165920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3CE452-609A-4F1B-B3E7-461011B64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737C0-031E-4C03-AA79-E30E6C3C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ED6E79-C2D9-4264-8EB3-102320A9F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11C7D-30F1-4469-97F7-CC78092B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709887-8394-495E-BC0C-268CD617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C3861-498F-436D-93AC-0907F7283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A34E92-7012-4813-B07A-C7D5DE7C3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214F3-FB86-4BDC-93E4-31306808F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CAC-6FD4-4074-9559-4163234C5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9E061-F81B-4F09-9810-C3AF501D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01A510-B2F9-4E40-AADA-244D3044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95D095-1D86-4147-95CD-C9E52FFB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C79A4-1511-45E5-9F69-A9AD7D805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8CFEB8-06A9-46A8-8630-718022DE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F686B-AE17-4514-B00B-35309BA3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FFED39-7A34-48BA-AC19-4C6D2E8C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EC60E-7651-4EE2-BB31-6DFD75FD1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BE0FD-60B6-43CE-949F-3CA76F3E9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6BF831-50BE-4CF9-9F46-B8EF579F7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7396-B2FB-4B70-8790-1361CE04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06C3EC-2F58-4C9F-B92E-2E196C90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EDF5-75EE-41D6-A99A-3B1713B23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C70E9-D256-4C14-838F-2E7EB55CD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B4B735-D497-4AA0-B01E-E79145331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B977D4-D292-4216-A9C5-58592730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1E3E62-5F7F-4111-9C5C-3E97B028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CBE9B-3BD1-4312-86D7-9323A251C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E97BAE-4E9C-4768-94C2-0EC64BC61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FE580-F1F3-46AC-BD1C-5D8DF2518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D5A5-DD94-48F7-9784-5C85F9F91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6978C-1952-416E-A66C-FEDFD257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1F253-8DEE-4623-8C63-283C3216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76437C-43C2-46C6-9A59-411304F6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847B-1BD4-41E1-9894-880145C2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8CAC7B-C042-4745-97D2-45AC626B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D321A-3345-4CDD-975A-1C216E37E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5039DD-28D7-4DDB-A90B-C49B4DE69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5AFA98-7A0A-469D-81C8-3D0F149E9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5199A-3761-4377-87A7-18599BDB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8C443C-95DB-4ABD-B975-D478CA5B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71DC-B4C1-4E88-BEF0-A9042F7E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ECC4-A7E7-4BED-8C8F-67591B77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29840" y="1260000"/>
            <a:ext cx="645804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CC6F6-785D-47A5-99D0-3D74C05C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23CE6B-4F70-4A27-8CC1-8D9D776F9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A07EDD-2CAF-4D7F-91CA-FB39632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F7126E-9098-4F6B-86EE-D72C1165A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29840" y="3828960"/>
            <a:ext cx="64580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B35099-364C-4AC0-88CD-175E7A595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39320" y="217152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2984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39320" y="3828960"/>
            <a:ext cx="315144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B199B-5FF6-4207-8AD8-862C478F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1360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7360" y="217152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2984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1360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7360" y="3828960"/>
            <a:ext cx="2079360" cy="15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74560-0D81-45B9-BF34-4A66E6BA5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2742FF-CFD0-42F9-8BDB-83796DE0F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6DF4A4-170B-4B02-870F-18F6369DB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63843D-64B4-4C83-8502-1D053CCA7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CFA81A-3B81-4CF2-9438-3B8555A0471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D225E6-2B1A-4D86-8142-B23F970CBD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fld id="{EC152285-1DE8-49B9-A025-07F38A05E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5BB5A2-0A6F-476E-B45E-745C3295FA6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64A098-39B7-462A-89E2-B3E149F844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31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DFDA85-FB93-49AB-9CED-A176D8A5C7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39F73-A8CD-4FC3-BC59-BEE057FABE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57E657-FDAC-4DF7-A2E4-EE540F0448BE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53E4B98-D0C4-4F2C-A295-A37B8B33E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71EEB1-D6FC-44B1-A581-E240383050B4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1F07FE-8A34-474A-BDFC-CAAA6798D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CC8DB0-53CB-4C64-BD3A-F9F090317B1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2BB0D4-07A6-4659-9DD7-1B7D05F6BB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2AB59E-2AF2-41ED-B169-E7CB1BF986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09B4251-5953-44D3-A349-5885DABE9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B8FC4-F190-4670-9AC9-65B996C3F2BC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F9712C-6EF9-45DA-A7C5-4099E8D16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9F538F-8E43-4DF9-AC81-57E15D7D22A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55EAEE-2AC2-4918-A800-8A61DDDFF9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59F392B-0613-4AD0-BFCF-A54E4A3D589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167D80-A7BA-45CD-8F12-ABF758951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D09BCD-D11C-4F7A-B629-16AAFE0D2CD8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8BCD443-6E97-40BD-ADA5-78D90155E8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8" descr="MSMT_tecky_OK_RGB.ai"/>
          <p:cNvPicPr/>
          <p:nvPr/>
        </p:nvPicPr>
        <p:blipFill>
          <a:blip r:embed="rId2"/>
          <a:stretch/>
        </p:blipFill>
        <p:spPr>
          <a:xfrm>
            <a:off x="1314360" y="569880"/>
            <a:ext cx="6458040" cy="503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10" descr="MSMT_logolink_bezVlajky_RGB.ai"/>
          <p:cNvPicPr/>
          <p:nvPr/>
        </p:nvPicPr>
        <p:blipFill>
          <a:blip r:embed="rId3"/>
          <a:stretch/>
        </p:blipFill>
        <p:spPr>
          <a:xfrm>
            <a:off x="2438280" y="5624640"/>
            <a:ext cx="4267440" cy="8413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elvetica CE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2" marL="11430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3" marL="16002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4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5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lvl="6" marL="2057400" indent="-228600" algn="just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elvetica CE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347E7D-0E40-4B10-8165-E4AF554A131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19AAB-5F5F-45BC-8328-124861A43B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zso.cz/" TargetMode="External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1819440"/>
            <a:ext cx="7772400" cy="102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Benefit7 – jak vyplnit projektovou žádos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2844360"/>
            <a:ext cx="6400800" cy="185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Corso Karlín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Helvetica CE"/>
              </a:rPr>
              <a:t>28.1.2011</a:t>
            </a:r>
            <a:endParaRPr b="0" lang="en-US" sz="20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Helvetica CE"/>
              </a:rPr>
              <a:t>Mgr. Petr Kraselovský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Helvetica 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ŽADATEL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51E609-1860-4717-AB3B-61626EC8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1"/>
          <a:srcRect l="2063" t="16091" r="4470" b="8276"/>
          <a:stretch/>
        </p:blipFill>
        <p:spPr>
          <a:xfrm>
            <a:off x="1838160" y="1770120"/>
            <a:ext cx="5442120" cy="3173400"/>
          </a:xfrm>
          <a:prstGeom prst="rect">
            <a:avLst/>
          </a:prstGeom>
          <a:ln w="0">
            <a:noFill/>
          </a:ln>
        </p:spPr>
      </p:pic>
      <p:sp>
        <p:nvSpPr>
          <p:cNvPr id="562" name="Obdélník se zakulaceným příčným rohem 5"/>
          <p:cNvSpPr/>
          <p:nvPr/>
        </p:nvSpPr>
        <p:spPr>
          <a:xfrm>
            <a:off x="7280280" y="1770120"/>
            <a:ext cx="1604880" cy="37702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Oficiální adresa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automatické natažení po validaci ARES – takto načtené údaje needituj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Verdana"/>
              </a:rPr>
              <a:t>Adresa pro doručení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– povinný úd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329840" y="1146240"/>
            <a:ext cx="645804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OSOBY ŽADATEL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AFAAA-2160-4E32-8C9C-EB31F3B0F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9" descr="C:\Documents and Settings\kraselovskyp\Dokumenty\Obrázky\1.1.- 4.bmp"/>
          <p:cNvPicPr/>
          <p:nvPr/>
        </p:nvPicPr>
        <p:blipFill>
          <a:blip r:embed="rId1"/>
          <a:stretch/>
        </p:blipFill>
        <p:spPr>
          <a:xfrm>
            <a:off x="2496960" y="1846440"/>
            <a:ext cx="4056120" cy="3760560"/>
          </a:xfrm>
          <a:prstGeom prst="rect">
            <a:avLst/>
          </a:prstGeom>
          <a:ln w="0">
            <a:noFill/>
          </a:ln>
        </p:spPr>
      </p:pic>
      <p:sp>
        <p:nvSpPr>
          <p:cNvPr id="566" name="Elipsa 6"/>
          <p:cNvSpPr/>
          <p:nvPr/>
        </p:nvSpPr>
        <p:spPr>
          <a:xfrm>
            <a:off x="4213080" y="4221000"/>
            <a:ext cx="1656000" cy="5972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Elipsa 7"/>
          <p:cNvSpPr/>
          <p:nvPr/>
        </p:nvSpPr>
        <p:spPr>
          <a:xfrm>
            <a:off x="2154240" y="5319720"/>
            <a:ext cx="1871640" cy="287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6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0361B7-F9DF-478D-8C9F-F2DF7F8477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Obrázek 8" descr="1.JPG"/>
          <p:cNvPicPr/>
          <p:nvPr/>
        </p:nvPicPr>
        <p:blipFill>
          <a:blip r:embed="rId1"/>
          <a:stretch/>
        </p:blipFill>
        <p:spPr>
          <a:xfrm>
            <a:off x="2523960" y="1717560"/>
            <a:ext cx="3781440" cy="3792600"/>
          </a:xfrm>
          <a:prstGeom prst="rect">
            <a:avLst/>
          </a:prstGeom>
          <a:ln w="0">
            <a:noFill/>
          </a:ln>
        </p:spPr>
      </p:pic>
      <p:sp>
        <p:nvSpPr>
          <p:cNvPr id="571" name="Obdélník se zakulaceným příčným rohem 5"/>
          <p:cNvSpPr/>
          <p:nvPr/>
        </p:nvSpPr>
        <p:spPr>
          <a:xfrm>
            <a:off x="6553080" y="1784520"/>
            <a:ext cx="1908360" cy="3725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záložce „Partner projektu“ jsou přístupné pouze v případě, že žadatel na záložce „Projekt“ zvolil možnost „Projekt má partnera.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mocí tlačítka „Nový záznam“ je možné zadat potřebný počet partnerů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7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C09171-BDFF-491A-832C-F13EBB28E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Zástupný symbol pro obsah 12" descr="1.JPG"/>
          <p:cNvPicPr/>
          <p:nvPr/>
        </p:nvPicPr>
        <p:blipFill>
          <a:blip r:embed="rId1"/>
          <a:stretch/>
        </p:blipFill>
        <p:spPr>
          <a:xfrm>
            <a:off x="2606760" y="1739880"/>
            <a:ext cx="3676680" cy="3800520"/>
          </a:xfrm>
          <a:prstGeom prst="rect">
            <a:avLst/>
          </a:prstGeom>
          <a:ln w="0">
            <a:noFill/>
          </a:ln>
        </p:spPr>
      </p:pic>
      <p:sp>
        <p:nvSpPr>
          <p:cNvPr id="575" name="Obdélníkový popisek 5"/>
          <p:cNvSpPr/>
          <p:nvPr/>
        </p:nvSpPr>
        <p:spPr>
          <a:xfrm>
            <a:off x="6170760" y="1957320"/>
            <a:ext cx="2516040" cy="657360"/>
          </a:xfrm>
          <a:prstGeom prst="wedgeRectCallout">
            <a:avLst>
              <a:gd name="adj1" fmla="val -74203"/>
              <a:gd name="adj2" fmla="val 56935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mezte částku, která z celkového rozpočtu projektu připadá na partn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Obdélníkový popisek 6"/>
          <p:cNvSpPr/>
          <p:nvPr/>
        </p:nvSpPr>
        <p:spPr>
          <a:xfrm>
            <a:off x="6170760" y="2614680"/>
            <a:ext cx="2516040" cy="885600"/>
          </a:xfrm>
          <a:prstGeom prst="wedgeRectCallout">
            <a:avLst>
              <a:gd name="adj1" fmla="val -67208"/>
              <a:gd name="adj2" fmla="val 57439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Proč zapojujete partnera do projektu, proč určité aktivity nerealizuje přímo žadatel? Proč je vhodný právě tento partner?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Obdélníkový popisek 7"/>
          <p:cNvSpPr/>
          <p:nvPr/>
        </p:nvSpPr>
        <p:spPr>
          <a:xfrm>
            <a:off x="6170760" y="3762360"/>
            <a:ext cx="2516040" cy="676440"/>
          </a:xfrm>
          <a:prstGeom prst="wedgeRectCallout">
            <a:avLst>
              <a:gd name="adj1" fmla="val -74203"/>
              <a:gd name="adj2" fmla="val 6796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způsob zapojení partnerů v příslušných aktivitá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Obdélníkový popisek 8"/>
          <p:cNvSpPr/>
          <p:nvPr/>
        </p:nvSpPr>
        <p:spPr>
          <a:xfrm>
            <a:off x="6170760" y="4438800"/>
            <a:ext cx="2516040" cy="1101600"/>
          </a:xfrm>
          <a:prstGeom prst="wedgeRectCallout">
            <a:avLst>
              <a:gd name="adj1" fmla="val -73287"/>
              <a:gd name="adj2" fmla="val 5254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projekty v oblasti RLZ již partner realizoval či realizuje. V případě velkého počtu projektů uveďte jen projekty obdobného charakteru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ARTNER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1EF5FC-3D32-499D-9002-F448B418E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1844640" y="1952640"/>
            <a:ext cx="5429160" cy="2419200"/>
          </a:xfrm>
          <a:prstGeom prst="rect">
            <a:avLst/>
          </a:prstGeom>
          <a:ln w="0">
            <a:noFill/>
          </a:ln>
        </p:spPr>
      </p:pic>
      <p:sp>
        <p:nvSpPr>
          <p:cNvPr id="582" name="Obdélník se zakulaceným příčným rohem 5"/>
          <p:cNvSpPr/>
          <p:nvPr/>
        </p:nvSpPr>
        <p:spPr>
          <a:xfrm>
            <a:off x="1844640" y="4371840"/>
            <a:ext cx="5429160" cy="11289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Elipsa 6"/>
          <p:cNvSpPr/>
          <p:nvPr/>
        </p:nvSpPr>
        <p:spPr>
          <a:xfrm>
            <a:off x="3425760" y="3262320"/>
            <a:ext cx="3670200" cy="422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ADRESA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B39A07-0A92-4F3C-8BD8-9121ADB6AC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6" name="Zástupný symbol pro obsah 4" descr="xxx_adresaPartnera.jpg"/>
          <p:cNvPicPr/>
          <p:nvPr/>
        </p:nvPicPr>
        <p:blipFill>
          <a:blip r:embed="rId1"/>
          <a:srcRect l="0" t="0" r="0" b="1517"/>
          <a:stretch/>
        </p:blipFill>
        <p:spPr>
          <a:xfrm>
            <a:off x="2811600" y="1674720"/>
            <a:ext cx="3163680" cy="3770280"/>
          </a:xfrm>
          <a:prstGeom prst="rect">
            <a:avLst/>
          </a:prstGeom>
          <a:ln w="0">
            <a:noFill/>
          </a:ln>
        </p:spPr>
      </p:pic>
      <p:sp>
        <p:nvSpPr>
          <p:cNvPr id="587" name="Obdélník se zakulaceným příčným rohem 5"/>
          <p:cNvSpPr/>
          <p:nvPr/>
        </p:nvSpPr>
        <p:spPr>
          <a:xfrm>
            <a:off x="6249960" y="1784520"/>
            <a:ext cx="1733400" cy="36604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dresy partnerů jsou automaticky vloženy při validaci ARES na záložce „Partner projektu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Automaticky vložené údaje needitujte v  aplikaci BENEF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OSOBY PARTNER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8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7B56200-3C21-4228-869A-F0DB6C73B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Zástupný symbol pro obsah 4" descr="04_zadost21_crop.jpg"/>
          <p:cNvPicPr/>
          <p:nvPr/>
        </p:nvPicPr>
        <p:blipFill>
          <a:blip r:embed="rId1"/>
          <a:srcRect l="3504" t="3029" r="0" b="4543"/>
          <a:stretch/>
        </p:blipFill>
        <p:spPr>
          <a:xfrm>
            <a:off x="2197080" y="1784520"/>
            <a:ext cx="3938760" cy="3560760"/>
          </a:xfrm>
          <a:prstGeom prst="rect">
            <a:avLst/>
          </a:prstGeom>
          <a:ln w="0">
            <a:noFill/>
          </a:ln>
        </p:spPr>
      </p:pic>
      <p:sp>
        <p:nvSpPr>
          <p:cNvPr id="591" name="Obdélník se zakulaceným příčným rohem 5"/>
          <p:cNvSpPr/>
          <p:nvPr/>
        </p:nvSpPr>
        <p:spPr>
          <a:xfrm>
            <a:off x="6300720" y="1916280"/>
            <a:ext cx="2357640" cy="328608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Vyplňte u každého partnera </a:t>
            </a: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statutární zástupce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F0DBFB-EBD3-471A-ACD5-4E3CF6E25A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Zástupný symbol pro obsah 4" descr="04_zadost22_1_crop.jpg"/>
          <p:cNvPicPr/>
          <p:nvPr/>
        </p:nvPicPr>
        <p:blipFill>
          <a:blip r:embed="rId1"/>
          <a:srcRect l="4632" t="0" r="0" b="1516"/>
          <a:stretch/>
        </p:blipFill>
        <p:spPr>
          <a:xfrm>
            <a:off x="2727360" y="1770120"/>
            <a:ext cx="3424320" cy="3716280"/>
          </a:xfrm>
          <a:prstGeom prst="rect">
            <a:avLst/>
          </a:prstGeom>
          <a:ln w="0">
            <a:noFill/>
          </a:ln>
        </p:spPr>
      </p:pic>
      <p:sp>
        <p:nvSpPr>
          <p:cNvPr id="595" name="Obdélník se zakulaceným příčným rohem 5"/>
          <p:cNvSpPr/>
          <p:nvPr/>
        </p:nvSpPr>
        <p:spPr>
          <a:xfrm>
            <a:off x="6151680" y="2048040"/>
            <a:ext cx="1636560" cy="3438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Verdana"/>
              </a:rPr>
              <a:t>Věnujte maximální pozornost vyplnění těchto záložek. Informace zde zadané slouží jako základní nástroj při hodnocení žádosti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7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OPIS PROJEKTU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9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572021-55A6-4002-8846-28CD29A987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2" descr=""/>
          <p:cNvPicPr/>
          <p:nvPr/>
        </p:nvPicPr>
        <p:blipFill>
          <a:blip r:embed="rId1"/>
          <a:stretch/>
        </p:blipFill>
        <p:spPr>
          <a:xfrm>
            <a:off x="1987560" y="1770120"/>
            <a:ext cx="4849920" cy="3749760"/>
          </a:xfrm>
          <a:prstGeom prst="rect">
            <a:avLst/>
          </a:prstGeom>
          <a:ln w="0">
            <a:noFill/>
          </a:ln>
        </p:spPr>
      </p:pic>
      <p:sp>
        <p:nvSpPr>
          <p:cNvPr id="599" name="Obdélníkový popisek 5"/>
          <p:cNvSpPr/>
          <p:nvPr/>
        </p:nvSpPr>
        <p:spPr>
          <a:xfrm>
            <a:off x="6467400" y="1938240"/>
            <a:ext cx="2471760" cy="1209600"/>
          </a:xfrm>
          <a:prstGeom prst="wedgeRectCallout">
            <a:avLst>
              <a:gd name="adj1" fmla="val -67625"/>
              <a:gd name="adj2" fmla="val -2571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Jaké má žadatel mechanismy a postupy pro řízení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ďte činnosti související s projektovým řízením včetně vazby na rozpoč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Obdélníkový popisek 6"/>
          <p:cNvSpPr/>
          <p:nvPr/>
        </p:nvSpPr>
        <p:spPr>
          <a:xfrm>
            <a:off x="6467400" y="4381560"/>
            <a:ext cx="2471760" cy="971640"/>
          </a:xfrm>
          <a:prstGeom prst="wedgeRectCallout">
            <a:avLst>
              <a:gd name="adj1" fmla="val -75726"/>
              <a:gd name="adj2" fmla="val 5519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yberte podporované aktivity uvedené ve výzvě k předkládání žádostí, které odpovídají d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Elipsa 8"/>
          <p:cNvSpPr/>
          <p:nvPr/>
        </p:nvSpPr>
        <p:spPr>
          <a:xfrm>
            <a:off x="4091040" y="4643280"/>
            <a:ext cx="1000080" cy="174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Elipsa 9"/>
          <p:cNvSpPr/>
          <p:nvPr/>
        </p:nvSpPr>
        <p:spPr>
          <a:xfrm>
            <a:off x="1987560" y="4638600"/>
            <a:ext cx="1000080" cy="179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330200" y="10774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66A5A0-1B5F-413E-A239-39B7377BE7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Zástupný symbol pro obsah 9" descr="1.JPG"/>
          <p:cNvPicPr/>
          <p:nvPr/>
        </p:nvPicPr>
        <p:blipFill>
          <a:blip r:embed="rId1"/>
          <a:stretch/>
        </p:blipFill>
        <p:spPr>
          <a:xfrm>
            <a:off x="2784600" y="1603440"/>
            <a:ext cx="3316320" cy="4027320"/>
          </a:xfrm>
          <a:prstGeom prst="rect">
            <a:avLst/>
          </a:prstGeom>
          <a:ln w="0">
            <a:noFill/>
          </a:ln>
        </p:spPr>
      </p:pic>
      <p:sp>
        <p:nvSpPr>
          <p:cNvPr id="606" name="Obdélník se zakulaceným příčným rohem 5"/>
          <p:cNvSpPr/>
          <p:nvPr/>
        </p:nvSpPr>
        <p:spPr>
          <a:xfrm>
            <a:off x="6488280" y="1770120"/>
            <a:ext cx="1931760" cy="3543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Zadané oblasti musí být v souladu s prostorem  definovaným Operačním program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rámci jednoho kraje je nutné uvést vždy pouze jeden reg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ádějte nejvyšší typ území (region, kraj, okres, obec), který odpovídá zpracovávanému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Elipsa 6"/>
          <p:cNvSpPr/>
          <p:nvPr/>
        </p:nvSpPr>
        <p:spPr>
          <a:xfrm>
            <a:off x="3857760" y="3178080"/>
            <a:ext cx="1245960" cy="5065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eu-zadost.cz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1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A2AFA4-6A66-4FDC-883A-EEE3F5765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4" descr=""/>
          <p:cNvPicPr/>
          <p:nvPr/>
        </p:nvPicPr>
        <p:blipFill>
          <a:blip r:embed="rId2"/>
          <a:stretch/>
        </p:blipFill>
        <p:spPr>
          <a:xfrm>
            <a:off x="662040" y="1951200"/>
            <a:ext cx="8024760" cy="30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330200" y="1091880"/>
            <a:ext cx="670896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ÚZEMÍ DOPADU A REALIZACE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0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2E03B-2345-43AC-9969-7BCB6F21BE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0" name="Obrázek 9" descr="3.JPG"/>
          <p:cNvPicPr/>
          <p:nvPr/>
        </p:nvPicPr>
        <p:blipFill>
          <a:blip r:embed="rId1"/>
          <a:stretch/>
        </p:blipFill>
        <p:spPr>
          <a:xfrm>
            <a:off x="2360520" y="1638360"/>
            <a:ext cx="4192560" cy="4043160"/>
          </a:xfrm>
          <a:prstGeom prst="rect">
            <a:avLst/>
          </a:prstGeom>
          <a:ln w="0">
            <a:noFill/>
          </a:ln>
        </p:spPr>
      </p:pic>
      <p:sp>
        <p:nvSpPr>
          <p:cNvPr id="611" name="Obdélník se zakulaceným příčným rohem 5"/>
          <p:cNvSpPr/>
          <p:nvPr/>
        </p:nvSpPr>
        <p:spPr>
          <a:xfrm>
            <a:off x="6286680" y="1714680"/>
            <a:ext cx="1969920" cy="37033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díl plánované částky způsobilých výdajů projektu (v %) vztahující se k NUTS3, v němž je projekt realizován. Součet procentních podílů ze všech zadaných oblastí se musí rovnat 100 %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55E3E-936D-4591-A022-10449B1F5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1951200" y="1811160"/>
            <a:ext cx="4976640" cy="3716640"/>
          </a:xfrm>
          <a:prstGeom prst="rect">
            <a:avLst/>
          </a:prstGeom>
          <a:ln w="0">
            <a:noFill/>
          </a:ln>
        </p:spPr>
      </p:pic>
      <p:sp>
        <p:nvSpPr>
          <p:cNvPr id="615" name="Obdélník se zakulaceným příčným rohem 5"/>
          <p:cNvSpPr/>
          <p:nvPr/>
        </p:nvSpPr>
        <p:spPr>
          <a:xfrm>
            <a:off x="6315120" y="3236760"/>
            <a:ext cx="2187360" cy="14306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všechny klíčové aktivity, které bud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 jednotlivých fázích projektu realizovat žadatel nebo partneři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Obdélníkový popisek 6"/>
          <p:cNvSpPr/>
          <p:nvPr/>
        </p:nvSpPr>
        <p:spPr>
          <a:xfrm>
            <a:off x="5838840" y="4830840"/>
            <a:ext cx="2663640" cy="696960"/>
          </a:xfrm>
          <a:prstGeom prst="wedgeRectCallout">
            <a:avLst>
              <a:gd name="adj1" fmla="val -96907"/>
              <a:gd name="adj2" fmla="val 6101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áklady na klíčové aktivity rozložte na ESF způsobilé výdaje a výdaje spadající do křížového financován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KLÍČOVÉ AKTIVI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1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C4068C-897E-4B9C-B02D-995B70B970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Zástupný symbol pro obsah 4" descr="04_zadost27_2_crop.jpg"/>
          <p:cNvPicPr/>
          <p:nvPr/>
        </p:nvPicPr>
        <p:blipFill>
          <a:blip r:embed="rId1"/>
          <a:stretch/>
        </p:blipFill>
        <p:spPr>
          <a:xfrm>
            <a:off x="1946160" y="1770120"/>
            <a:ext cx="5064120" cy="3852720"/>
          </a:xfrm>
          <a:prstGeom prst="rect">
            <a:avLst/>
          </a:prstGeom>
          <a:ln w="0">
            <a:noFill/>
          </a:ln>
        </p:spPr>
      </p:pic>
      <p:sp>
        <p:nvSpPr>
          <p:cNvPr id="620" name="Obdélníkový popisek 5"/>
          <p:cNvSpPr/>
          <p:nvPr/>
        </p:nvSpPr>
        <p:spPr>
          <a:xfrm>
            <a:off x="6553080" y="2511360"/>
            <a:ext cx="2448000" cy="1201680"/>
          </a:xfrm>
          <a:prstGeom prst="wedgeRectCallout">
            <a:avLst>
              <a:gd name="adj1" fmla="val -63472"/>
              <a:gd name="adj2" fmla="val 18701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Ke každé klíčové aktivitě přiřaďte všechny subjekty, které se budou podílet na její realizaci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ARMONOGRAM AKTIVI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717D2D-67B8-46B2-91EB-6E5A8AF2F1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1692360" y="1770120"/>
            <a:ext cx="5759280" cy="2962080"/>
          </a:xfrm>
          <a:prstGeom prst="rect">
            <a:avLst/>
          </a:prstGeom>
          <a:ln w="0">
            <a:noFill/>
          </a:ln>
        </p:spPr>
      </p:pic>
      <p:sp>
        <p:nvSpPr>
          <p:cNvPr id="624" name="Obdélník se zakulaceným příčným rohem 5"/>
          <p:cNvSpPr/>
          <p:nvPr/>
        </p:nvSpPr>
        <p:spPr>
          <a:xfrm>
            <a:off x="1692360" y="4732200"/>
            <a:ext cx="5759280" cy="7128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Do harmonogramu zahrňte všechny klíčové aktivity zadané na záložce „Klíčové aktivity“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vedené aktivity musí být realizovány v časovém rozmezí uvedeném na záložce „Projekt“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Elipsa 6"/>
          <p:cNvSpPr/>
          <p:nvPr/>
        </p:nvSpPr>
        <p:spPr>
          <a:xfrm>
            <a:off x="1692360" y="3166920"/>
            <a:ext cx="1071360" cy="1908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Elipsa 7"/>
          <p:cNvSpPr/>
          <p:nvPr/>
        </p:nvSpPr>
        <p:spPr>
          <a:xfrm>
            <a:off x="5180040" y="3968640"/>
            <a:ext cx="1071360" cy="3571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2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AB2372-60BE-41A9-A63E-CEDB3D2127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2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364200" cy="1517400"/>
          </a:xfrm>
          <a:prstGeom prst="rect">
            <a:avLst/>
          </a:prstGeom>
          <a:ln w="0">
            <a:noFill/>
          </a:ln>
        </p:spPr>
      </p:pic>
      <p:pic>
        <p:nvPicPr>
          <p:cNvPr id="630" name="Picture 3" descr=""/>
          <p:cNvPicPr/>
          <p:nvPr/>
        </p:nvPicPr>
        <p:blipFill>
          <a:blip r:embed="rId2"/>
          <a:stretch/>
        </p:blipFill>
        <p:spPr>
          <a:xfrm>
            <a:off x="1330200" y="3301920"/>
            <a:ext cx="2695680" cy="2268720"/>
          </a:xfrm>
          <a:prstGeom prst="rect">
            <a:avLst/>
          </a:prstGeom>
          <a:ln w="0">
            <a:noFill/>
          </a:ln>
        </p:spPr>
      </p:pic>
      <p:sp>
        <p:nvSpPr>
          <p:cNvPr id="631" name="Elipsa 7"/>
          <p:cNvSpPr/>
          <p:nvPr/>
        </p:nvSpPr>
        <p:spPr>
          <a:xfrm>
            <a:off x="342900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Elipsa 8"/>
          <p:cNvSpPr/>
          <p:nvPr/>
        </p:nvSpPr>
        <p:spPr>
          <a:xfrm>
            <a:off x="1104840" y="3000240"/>
            <a:ext cx="928800" cy="2858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Obdélníkový popisek 9"/>
          <p:cNvSpPr/>
          <p:nvPr/>
        </p:nvSpPr>
        <p:spPr>
          <a:xfrm>
            <a:off x="4357800" y="1974960"/>
            <a:ext cx="2149200" cy="836640"/>
          </a:xfrm>
          <a:prstGeom prst="wedgeRectCallout">
            <a:avLst>
              <a:gd name="adj1" fmla="val -69004"/>
              <a:gd name="adj2" fmla="val 126467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 nabídky lze rozlišit pracovníky dle typu 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Manažerské a administrativní pozic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Odborné pozi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Obdélníkový popisek 10"/>
          <p:cNvSpPr/>
          <p:nvPr/>
        </p:nvSpPr>
        <p:spPr>
          <a:xfrm>
            <a:off x="4357800" y="2954160"/>
            <a:ext cx="2450880" cy="331920"/>
          </a:xfrm>
          <a:prstGeom prst="wedgeRectCallout">
            <a:avLst>
              <a:gd name="adj1" fmla="val -65439"/>
              <a:gd name="adj2" fmla="val 206384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Verdana"/>
              </a:rPr>
              <a:t>Zvolte žadatele nebo partnera. </a:t>
            </a:r>
            <a:br>
              <a:rPr sz="16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Obdélník se zakulaceným příčným rohem 11"/>
          <p:cNvSpPr/>
          <p:nvPr/>
        </p:nvSpPr>
        <p:spPr>
          <a:xfrm>
            <a:off x="6945480" y="1784520"/>
            <a:ext cx="1741320" cy="37861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řípadě, že plánujete pro určitý typ pozice více zaměstnanců, vyplňte tuto pozici jako jeden záznam a v poli „Úvazek“ uveďte kumulovanou hodnotu úvazků všech zaměstnanců (například 300 %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V popisu pracovní náplně uveďte počet osob, které budou danou pozici zajišťov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09320" y="1050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REALIZAČNÍ TÝM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3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A5BC46-DA18-4037-8DA2-ADE7989254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4" descr=""/>
          <p:cNvPicPr/>
          <p:nvPr/>
        </p:nvPicPr>
        <p:blipFill>
          <a:blip r:embed="rId1"/>
          <a:stretch/>
        </p:blipFill>
        <p:spPr>
          <a:xfrm>
            <a:off x="1309680" y="1569960"/>
            <a:ext cx="5605560" cy="3775320"/>
          </a:xfrm>
          <a:prstGeom prst="rect">
            <a:avLst/>
          </a:prstGeom>
          <a:ln w="0">
            <a:noFill/>
          </a:ln>
        </p:spPr>
      </p:pic>
      <p:sp>
        <p:nvSpPr>
          <p:cNvPr id="639" name="Šrafovaná šipka doprava 5"/>
          <p:cNvSpPr/>
          <p:nvPr/>
        </p:nvSpPr>
        <p:spPr>
          <a:xfrm rot="5400000">
            <a:off x="3643200" y="1641240"/>
            <a:ext cx="428760" cy="285840"/>
          </a:xfrm>
          <a:prstGeom prst="pie">
            <a:avLst/>
          </a:prstGeom>
          <a:solidFill>
            <a:srgbClr val="f3912c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bdélníkový popisek 6"/>
          <p:cNvSpPr/>
          <p:nvPr/>
        </p:nvSpPr>
        <p:spPr>
          <a:xfrm>
            <a:off x="6359400" y="1743120"/>
            <a:ext cx="2592360" cy="1111320"/>
          </a:xfrm>
          <a:prstGeom prst="wedgeRectCallout">
            <a:avLst>
              <a:gd name="adj1" fmla="val -91231"/>
              <a:gd name="adj2" fmla="val 11902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U pracovní smlouvy uvádějte úvazek v procentech (50 %, </a:t>
            </a:r>
            <a:br>
              <a:rPr sz="1200"/>
            </a:br>
            <a:r>
              <a:rPr b="0" lang="cs-CZ" sz="1200" spc="-1" strike="noStrike">
                <a:solidFill>
                  <a:srgbClr val="000000"/>
                </a:solidFill>
                <a:latin typeface="Verdana"/>
              </a:rPr>
              <a:t>300 % atd.), v případě DPČ nebo DPP uvádějte počet hodin za měsí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bdélníkový popisek 7"/>
          <p:cNvSpPr/>
          <p:nvPr/>
        </p:nvSpPr>
        <p:spPr>
          <a:xfrm>
            <a:off x="6134040" y="3535200"/>
            <a:ext cx="2817720" cy="700200"/>
          </a:xfrm>
          <a:prstGeom prst="wedgeRectCallout">
            <a:avLst>
              <a:gd name="adj1" fmla="val -99125"/>
              <a:gd name="adj2" fmla="val -51555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 pracovní smlouvy doplňte sazbu za měsíc, u DPČ nebo DPP sazbu za hodin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bdélníkový popisek 8"/>
          <p:cNvSpPr/>
          <p:nvPr/>
        </p:nvSpPr>
        <p:spPr>
          <a:xfrm>
            <a:off x="4871880" y="4599000"/>
            <a:ext cx="4079880" cy="985680"/>
          </a:xfrm>
          <a:prstGeom prst="wedgeRectCallout">
            <a:avLst>
              <a:gd name="adj1" fmla="val -74995"/>
              <a:gd name="adj2" fmla="val -63000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Zodpovězte následující otázk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á bude převažující pracovní náplň této pozice v projektu? Popište nejčastější typy činností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Na jakých konkrétních aktivitách se bude v rámci projektu podílet a jakým způsobe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Verdana"/>
              </a:rPr>
              <a:t>Jaké náklady (jiné než osobní a režie) se budou k dané pozici vázat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HORIZONTÁLNÍ TÉMATA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604F56-5F32-4390-9FBA-2945F52E4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916280" y="1784520"/>
            <a:ext cx="4989240" cy="3727440"/>
          </a:xfrm>
          <a:prstGeom prst="rect">
            <a:avLst/>
          </a:prstGeom>
          <a:ln w="0">
            <a:noFill/>
          </a:ln>
        </p:spPr>
      </p:pic>
      <p:sp>
        <p:nvSpPr>
          <p:cNvPr id="646" name="Obdélník se zakulaceným příčným rohem 5"/>
          <p:cNvSpPr/>
          <p:nvPr/>
        </p:nvSpPr>
        <p:spPr>
          <a:xfrm>
            <a:off x="6905520" y="1951200"/>
            <a:ext cx="1611360" cy="35607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hrňte, v jakých klíčových aktivitách a jakým způsobem bude projekt ovlivňovat rovné příležitosti a udržitelný rozvoj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KATEGORIZACE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4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C8151B-2B3B-449C-8CB2-8ADC463240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5" descr=""/>
          <p:cNvPicPr/>
          <p:nvPr/>
        </p:nvPicPr>
        <p:blipFill>
          <a:blip r:embed="rId1"/>
          <a:stretch/>
        </p:blipFill>
        <p:spPr>
          <a:xfrm>
            <a:off x="1330200" y="1784520"/>
            <a:ext cx="3760920" cy="19954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6" descr=""/>
          <p:cNvPicPr/>
          <p:nvPr/>
        </p:nvPicPr>
        <p:blipFill>
          <a:blip r:embed="rId2"/>
          <a:stretch/>
        </p:blipFill>
        <p:spPr>
          <a:xfrm>
            <a:off x="1330200" y="3887640"/>
            <a:ext cx="4238640" cy="1690920"/>
          </a:xfrm>
          <a:prstGeom prst="rect">
            <a:avLst/>
          </a:prstGeom>
          <a:ln w="0">
            <a:noFill/>
          </a:ln>
        </p:spPr>
      </p:pic>
      <p:sp>
        <p:nvSpPr>
          <p:cNvPr id="651" name="Obdélníkový popisek 6"/>
          <p:cNvSpPr/>
          <p:nvPr/>
        </p:nvSpPr>
        <p:spPr>
          <a:xfrm>
            <a:off x="4776840" y="1784520"/>
            <a:ext cx="2579760" cy="715680"/>
          </a:xfrm>
          <a:prstGeom prst="wedgeRectCallout">
            <a:avLst>
              <a:gd name="adj1" fmla="val -43023"/>
              <a:gd name="adj2" fmla="val 116648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ýběr typu území – venkovská oblast, měst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Obdélníkový popisek 7"/>
          <p:cNvSpPr/>
          <p:nvPr/>
        </p:nvSpPr>
        <p:spPr>
          <a:xfrm>
            <a:off x="5195880" y="2720880"/>
            <a:ext cx="2714760" cy="2857680"/>
          </a:xfrm>
          <a:prstGeom prst="wedgeRectCallout">
            <a:avLst>
              <a:gd name="adj1" fmla="val -123347"/>
              <a:gd name="adj2" fmla="val 44879"/>
            </a:avLst>
          </a:prstGeom>
          <a:solidFill>
            <a:srgbClr val="ffe593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Součet částek za všechna zvolená prioritní témata v poli Prostředky z EU v Kč musí být roven částce v poli Strukturální fond v záložce Přehled financová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Monitorovací indikátory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4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898CC-9E17-4110-9356-EA9849B986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3" descr=""/>
          <p:cNvPicPr/>
          <p:nvPr/>
        </p:nvPicPr>
        <p:blipFill>
          <a:blip r:embed="rId1"/>
          <a:stretch/>
        </p:blipFill>
        <p:spPr>
          <a:xfrm>
            <a:off x="1746360" y="1711440"/>
            <a:ext cx="4738680" cy="3633840"/>
          </a:xfrm>
          <a:prstGeom prst="rect">
            <a:avLst/>
          </a:prstGeom>
          <a:ln w="0">
            <a:noFill/>
          </a:ln>
        </p:spPr>
      </p:pic>
      <p:sp>
        <p:nvSpPr>
          <p:cNvPr id="656" name="Obdélník se zakulaceným příčným rohem 5"/>
          <p:cNvSpPr/>
          <p:nvPr/>
        </p:nvSpPr>
        <p:spPr>
          <a:xfrm>
            <a:off x="6615000" y="1770120"/>
            <a:ext cx="2071800" cy="35654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Všechny indikátory jsou před vyplněny na nulovou hodnotu. Vyplňte pouze hodnoty relevantních indikátorů pro projek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Nezapomínejte vyplnit součtové i dílčí indikátory  např. muže/žen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Elipsa 7"/>
          <p:cNvSpPr/>
          <p:nvPr/>
        </p:nvSpPr>
        <p:spPr>
          <a:xfrm>
            <a:off x="4808520" y="2825640"/>
            <a:ext cx="1428840" cy="559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VÝBĚROVÁ ŘÍZENÍ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59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B4AED6-1202-429D-863F-B750E8EE92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Zástupný symbol pro obsah 8" descr="1.JPG"/>
          <p:cNvPicPr/>
          <p:nvPr/>
        </p:nvPicPr>
        <p:blipFill>
          <a:blip r:embed="rId1"/>
          <a:stretch/>
        </p:blipFill>
        <p:spPr>
          <a:xfrm>
            <a:off x="1897200" y="1736640"/>
            <a:ext cx="4147920" cy="3808440"/>
          </a:xfrm>
          <a:prstGeom prst="rect">
            <a:avLst/>
          </a:prstGeom>
          <a:ln w="0">
            <a:noFill/>
          </a:ln>
        </p:spPr>
      </p:pic>
      <p:sp>
        <p:nvSpPr>
          <p:cNvPr id="661" name="Obdélník se zakulaceným příčným rohem 5"/>
          <p:cNvSpPr/>
          <p:nvPr/>
        </p:nvSpPr>
        <p:spPr>
          <a:xfrm>
            <a:off x="6342120" y="1881360"/>
            <a:ext cx="2146320" cy="366372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informace </a:t>
            </a:r>
            <a:br>
              <a:rPr sz="1500"/>
            </a:b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o chystaných nebo již probíhajících výběrových řízeních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Formuláře na této záložce budou aktivní pouze v případě, že jste na záložce „Projekt“ zvolili příslušnou volb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534C29-6FDE-4AF8-AAF9-F6154B0C17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rcRect l="3901" t="10139" r="30472" b="56434"/>
          <a:stretch/>
        </p:blipFill>
        <p:spPr>
          <a:xfrm>
            <a:off x="1152360" y="1770120"/>
            <a:ext cx="7008840" cy="2759040"/>
          </a:xfrm>
          <a:prstGeom prst="rect">
            <a:avLst/>
          </a:prstGeom>
          <a:ln w="0">
            <a:noFill/>
          </a:ln>
        </p:spPr>
      </p:pic>
      <p:sp>
        <p:nvSpPr>
          <p:cNvPr id="524" name="Podnadpis 7"/>
          <p:cNvSpPr/>
          <p:nvPr/>
        </p:nvSpPr>
        <p:spPr>
          <a:xfrm>
            <a:off x="2071800" y="4529160"/>
            <a:ext cx="5716440" cy="10778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79280" indent="-144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Po úspěšném přihlášení se zobrazí nabídka </a:t>
            </a:r>
            <a:r>
              <a:rPr b="1" lang="cs-CZ" sz="1500" spc="-1" strike="noStrike">
                <a:solidFill>
                  <a:srgbClr val="000000"/>
                </a:solidFill>
                <a:latin typeface="Verdana"/>
              </a:rPr>
              <a:t>Konto žádosti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. Slouží jako seznam/přehled všech vytvořených žádostí, které žadatel vytvořil či k nim má přístup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9280" indent="-14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UBLICITA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2180979-78C9-4C1B-897D-366515B9BB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382760" y="1582560"/>
            <a:ext cx="5898960" cy="4040280"/>
          </a:xfrm>
          <a:prstGeom prst="rect">
            <a:avLst/>
          </a:prstGeom>
          <a:ln w="0">
            <a:noFill/>
          </a:ln>
        </p:spPr>
      </p:pic>
      <p:sp>
        <p:nvSpPr>
          <p:cNvPr id="665" name="Elipsa 5"/>
          <p:cNvSpPr/>
          <p:nvPr/>
        </p:nvSpPr>
        <p:spPr>
          <a:xfrm>
            <a:off x="1392120" y="3314880"/>
            <a:ext cx="121608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Elipsa 6"/>
          <p:cNvSpPr/>
          <p:nvPr/>
        </p:nvSpPr>
        <p:spPr>
          <a:xfrm>
            <a:off x="5022720" y="3314880"/>
            <a:ext cx="1214640" cy="485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DALŠÍ PROJEKT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68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876E83-431B-446A-9216-CBFAF212B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Zástupný symbol pro obsah 4" descr="04_zadost50_1_crop.jpg"/>
          <p:cNvPicPr/>
          <p:nvPr/>
        </p:nvPicPr>
        <p:blipFill>
          <a:blip r:embed="rId1"/>
          <a:srcRect l="4686" t="3034" r="0" b="25762"/>
          <a:stretch/>
        </p:blipFill>
        <p:spPr>
          <a:xfrm>
            <a:off x="1246320" y="1784520"/>
            <a:ext cx="5960880" cy="3551040"/>
          </a:xfrm>
          <a:prstGeom prst="rect">
            <a:avLst/>
          </a:prstGeom>
          <a:ln w="0">
            <a:noFill/>
          </a:ln>
        </p:spPr>
      </p:pic>
      <p:sp>
        <p:nvSpPr>
          <p:cNvPr id="670" name="Obdélník se zakulaceným příčným rohem 5"/>
          <p:cNvSpPr/>
          <p:nvPr/>
        </p:nvSpPr>
        <p:spPr>
          <a:xfrm>
            <a:off x="7207200" y="1784520"/>
            <a:ext cx="1690560" cy="427500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další projekty, které realizuje žadatel v oblasti rozvoje lidských zdrojů a které jsou financované z veřejných zdrojů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Uveďte projekty, které jsou relevantní vzhledem k tomuto projektu a js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realizované nebo připravované v době podání žádos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Záložka PŘÍLOHY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48DB7B-1591-4E65-8D3C-210109E757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Picture 7" descr=""/>
          <p:cNvPicPr/>
          <p:nvPr/>
        </p:nvPicPr>
        <p:blipFill>
          <a:blip r:embed="rId1"/>
          <a:stretch/>
        </p:blipFill>
        <p:spPr>
          <a:xfrm>
            <a:off x="1855800" y="1701720"/>
            <a:ext cx="4325760" cy="3870360"/>
          </a:xfrm>
          <a:prstGeom prst="rect">
            <a:avLst/>
          </a:prstGeom>
          <a:ln w="0">
            <a:noFill/>
          </a:ln>
        </p:spPr>
      </p:pic>
      <p:sp>
        <p:nvSpPr>
          <p:cNvPr id="674" name="Obdélník se zakulaceným příčným rohem 5"/>
          <p:cNvSpPr/>
          <p:nvPr/>
        </p:nvSpPr>
        <p:spPr>
          <a:xfrm>
            <a:off x="6365880" y="1701720"/>
            <a:ext cx="1781280" cy="38703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Elektronickou přílohu vložte kliknutím na tlačítko Připojit, zde vyberte požadovaný  soub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Přílohy s povinným podpisem naskenujte </a:t>
            </a:r>
            <a:br>
              <a:rPr sz="1400"/>
            </a:b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a přiložte jako obrázek jpg, nebo soubor p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Verdana"/>
              </a:rPr>
              <a:t>Každá příloha musí mít zaškrtnuto buď doložena, nebo nerelevantní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Kontrola žádosti a finalizace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7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48DBF9-7669-4CC3-802D-C69832EA31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Picture 2" descr=""/>
          <p:cNvPicPr/>
          <p:nvPr/>
        </p:nvPicPr>
        <p:blipFill>
          <a:blip r:embed="rId1"/>
          <a:stretch/>
        </p:blipFill>
        <p:spPr>
          <a:xfrm>
            <a:off x="1596960" y="1784520"/>
            <a:ext cx="6510240" cy="2858760"/>
          </a:xfrm>
          <a:prstGeom prst="rect">
            <a:avLst/>
          </a:prstGeom>
          <a:ln w="0">
            <a:noFill/>
          </a:ln>
        </p:spPr>
      </p:pic>
      <p:sp>
        <p:nvSpPr>
          <p:cNvPr id="678" name="Obdélník se zakulaceným příčným rohem 5"/>
          <p:cNvSpPr/>
          <p:nvPr/>
        </p:nvSpPr>
        <p:spPr>
          <a:xfrm>
            <a:off x="1596960" y="4643280"/>
            <a:ext cx="6510240" cy="1006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Kontrola se spustí přes tlačítko Kontrola, automaticky proběhne i při spuštění Finalizac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Bez doplnění všech nedostatků, na které Kontrola upozorní, nelze Finalizaci žádosti provést</a:t>
            </a:r>
            <a:r>
              <a:rPr b="0" lang="cs-CZ" sz="1300" spc="-1" strike="noStrike">
                <a:solidFill>
                  <a:srgbClr val="000000"/>
                </a:solidFill>
                <a:latin typeface="Verdana"/>
                <a:ea typeface="Times New Roman"/>
              </a:rPr>
              <a:t>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Verdana"/>
              </a:rPr>
              <a:t>Kontakt - Benefit</a:t>
            </a:r>
            <a:endParaRPr b="1" lang="en-US" sz="32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help_opvk@msmt.cz</a:t>
            </a:r>
            <a:r>
              <a:rPr b="0" lang="cs-CZ" sz="2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 </a:t>
            </a: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Děkujeme vám za pozornost</a:t>
            </a: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681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0762F1-50EA-48F8-B1E5-A217B7E9C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329840" y="10774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Tvorba nové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26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4363D9-1AEE-4CAA-B2B2-0C0D94C68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Picture 7" descr=""/>
          <p:cNvPicPr/>
          <p:nvPr/>
        </p:nvPicPr>
        <p:blipFill>
          <a:blip r:embed="rId1"/>
          <a:stretch/>
        </p:blipFill>
        <p:spPr>
          <a:xfrm>
            <a:off x="1330200" y="1770120"/>
            <a:ext cx="6458040" cy="89064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8" descr="C:\Documents and Settings\kraselovskyp\Dokumenty\Obrázky\1.1.bmp"/>
          <p:cNvPicPr/>
          <p:nvPr/>
        </p:nvPicPr>
        <p:blipFill>
          <a:blip r:embed="rId2"/>
          <a:stretch/>
        </p:blipFill>
        <p:spPr>
          <a:xfrm>
            <a:off x="1330200" y="2660760"/>
            <a:ext cx="6458040" cy="1684080"/>
          </a:xfrm>
          <a:prstGeom prst="rect">
            <a:avLst/>
          </a:prstGeom>
          <a:ln w="0">
            <a:noFill/>
          </a:ln>
        </p:spPr>
      </p:pic>
      <p:sp>
        <p:nvSpPr>
          <p:cNvPr id="529" name="Podnadpis 7"/>
          <p:cNvSpPr/>
          <p:nvPr/>
        </p:nvSpPr>
        <p:spPr>
          <a:xfrm>
            <a:off x="1928880" y="4344840"/>
            <a:ext cx="5344920" cy="1114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V nabídce jsou různé typy výzev. Vždy je nutné vybrat správný typ výzvy podle druhu projektu. Úplný název výzvy v Benefit7 je vždy uveden ve výzvě samotné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Elipsa 7"/>
          <p:cNvSpPr/>
          <p:nvPr/>
        </p:nvSpPr>
        <p:spPr>
          <a:xfrm>
            <a:off x="2820960" y="3321000"/>
            <a:ext cx="4967280" cy="647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329840" y="108216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Identifikace žádosti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32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0F5A15-1137-448F-80F3-9E5E544BC2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2" descr="C:\Documents and Settings\kraselovskyp\Dokumenty\Obrázky\1.1 - 2.bmp"/>
          <p:cNvPicPr/>
          <p:nvPr/>
        </p:nvPicPr>
        <p:blipFill>
          <a:blip r:embed="rId1"/>
          <a:stretch/>
        </p:blipFill>
        <p:spPr>
          <a:xfrm>
            <a:off x="1330200" y="1774800"/>
            <a:ext cx="6458040" cy="2625840"/>
          </a:xfrm>
          <a:prstGeom prst="rect">
            <a:avLst/>
          </a:prstGeom>
          <a:ln w="0">
            <a:noFill/>
          </a:ln>
        </p:spPr>
      </p:pic>
      <p:sp>
        <p:nvSpPr>
          <p:cNvPr id="534" name="Podnadpis 7"/>
          <p:cNvSpPr/>
          <p:nvPr/>
        </p:nvSpPr>
        <p:spPr>
          <a:xfrm>
            <a:off x="1728720" y="4592520"/>
            <a:ext cx="5859360" cy="95904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Vyplňujte záložky v takovém pořadí, v jakém jsou řazeny za sebou. Při přeskakování záložek nemusí být všechna pole zobrazena nebo se nemusí zobrazovat číselníky.</a:t>
            </a:r>
            <a:r>
              <a:rPr b="0" lang="cs-CZ" sz="15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Calibri"/>
                <a:ea typeface="Times New Roman"/>
              </a:rPr>
              <a:t>Průběžně UKLÁDEJTE každou záložku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Elipsa 7"/>
          <p:cNvSpPr/>
          <p:nvPr/>
        </p:nvSpPr>
        <p:spPr>
          <a:xfrm>
            <a:off x="3240000" y="2292480"/>
            <a:ext cx="3313080" cy="6699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Elipsa 9"/>
          <p:cNvSpPr/>
          <p:nvPr/>
        </p:nvSpPr>
        <p:spPr>
          <a:xfrm>
            <a:off x="955800" y="4148280"/>
            <a:ext cx="2046240" cy="252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8" descr=""/>
          <p:cNvPicPr/>
          <p:nvPr/>
        </p:nvPicPr>
        <p:blipFill>
          <a:blip r:embed="rId2"/>
          <a:stretch/>
        </p:blipFill>
        <p:spPr>
          <a:xfrm>
            <a:off x="4056120" y="4248000"/>
            <a:ext cx="2305080" cy="304920"/>
          </a:xfrm>
          <a:prstGeom prst="rect">
            <a:avLst/>
          </a:prstGeom>
          <a:ln w="0">
            <a:noFill/>
          </a:ln>
        </p:spPr>
      </p:pic>
      <p:sp>
        <p:nvSpPr>
          <p:cNvPr id="538" name="Šipka dolů 12"/>
          <p:cNvSpPr/>
          <p:nvPr/>
        </p:nvSpPr>
        <p:spPr>
          <a:xfrm rot="5400000">
            <a:off x="5103720" y="3913200"/>
            <a:ext cx="534960" cy="976320"/>
          </a:xfrm>
          <a:prstGeom prst="downArrow">
            <a:avLst>
              <a:gd name="adj1" fmla="val 50000"/>
              <a:gd name="adj2" fmla="val 50002"/>
            </a:avLst>
          </a:prstGeom>
          <a:noFill/>
          <a:ln w="12600">
            <a:solidFill>
              <a:srgbClr val="ff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330200" y="914040"/>
            <a:ext cx="624384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PROJEKT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0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B163F6-5B2D-4165-B8BC-61B8A386D7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8" descr=""/>
          <p:cNvPicPr/>
          <p:nvPr/>
        </p:nvPicPr>
        <p:blipFill>
          <a:blip r:embed="rId1"/>
          <a:stretch/>
        </p:blipFill>
        <p:spPr>
          <a:xfrm>
            <a:off x="1922400" y="1555920"/>
            <a:ext cx="4508640" cy="2438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C:\Documents and Settings\kraselovskyp\Dokumenty\Obrázky\1.1 - 3.jpg"/>
          <p:cNvPicPr/>
          <p:nvPr/>
        </p:nvPicPr>
        <p:blipFill>
          <a:blip r:embed="rId2"/>
          <a:stretch/>
        </p:blipFill>
        <p:spPr>
          <a:xfrm>
            <a:off x="1927080" y="2660760"/>
            <a:ext cx="4626000" cy="2884320"/>
          </a:xfrm>
          <a:prstGeom prst="rect">
            <a:avLst/>
          </a:prstGeom>
          <a:ln w="0">
            <a:noFill/>
          </a:ln>
        </p:spPr>
      </p:pic>
      <p:sp>
        <p:nvSpPr>
          <p:cNvPr id="543" name="Elipsa 6"/>
          <p:cNvSpPr/>
          <p:nvPr/>
        </p:nvSpPr>
        <p:spPr>
          <a:xfrm>
            <a:off x="2925720" y="4303800"/>
            <a:ext cx="3938760" cy="531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Elipsa 7"/>
          <p:cNvSpPr/>
          <p:nvPr/>
        </p:nvSpPr>
        <p:spPr>
          <a:xfrm>
            <a:off x="3225960" y="5013360"/>
            <a:ext cx="146844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Elipsa 9"/>
          <p:cNvSpPr/>
          <p:nvPr/>
        </p:nvSpPr>
        <p:spPr>
          <a:xfrm>
            <a:off x="4694400" y="5013360"/>
            <a:ext cx="1469880" cy="322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329840" y="1091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 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47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5E0DE4-205E-4AF5-AC3A-88A8A3D60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Obrázek 5" descr="1.JPG"/>
          <p:cNvPicPr/>
          <p:nvPr/>
        </p:nvPicPr>
        <p:blipFill>
          <a:blip r:embed="rId1"/>
          <a:stretch/>
        </p:blipFill>
        <p:spPr>
          <a:xfrm>
            <a:off x="2633760" y="1658880"/>
            <a:ext cx="3714480" cy="3987720"/>
          </a:xfrm>
          <a:prstGeom prst="rect">
            <a:avLst/>
          </a:prstGeom>
          <a:ln w="0">
            <a:noFill/>
          </a:ln>
        </p:spPr>
      </p:pic>
      <p:sp>
        <p:nvSpPr>
          <p:cNvPr id="549" name="Obdélníkový popisek 5"/>
          <p:cNvSpPr/>
          <p:nvPr/>
        </p:nvSpPr>
        <p:spPr>
          <a:xfrm flipV="1" rot="10800000">
            <a:off x="6214680" y="2927880"/>
            <a:ext cx="2639880" cy="1214280"/>
          </a:xfrm>
          <a:prstGeom prst="wedgeRectCallout">
            <a:avLst>
              <a:gd name="adj1" fmla="val 172361"/>
              <a:gd name="adj2" fmla="val 53782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Částka, která připad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z celkového rozpočtu na žadate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bdélník se zakulaceným příčným rohem 6"/>
          <p:cNvSpPr/>
          <p:nvPr/>
        </p:nvSpPr>
        <p:spPr>
          <a:xfrm>
            <a:off x="6156360" y="4221000"/>
            <a:ext cx="2714760" cy="1357560"/>
          </a:xfrm>
          <a:prstGeom prst="pie">
            <a:avLst/>
          </a:prstGeom>
          <a:solidFill>
            <a:srgbClr val="ffffff"/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Žadatelem je hlavní odpovědná osoba za projek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329840" y="126000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Verdana"/>
              </a:rPr>
              <a:t>Služba ARES ošetřující IČ</a:t>
            </a:r>
            <a:endParaRPr b="1" lang="en-US" sz="2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1329840" y="2171520"/>
            <a:ext cx="6458040" cy="31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 případě, že by validace ARES neproběhla správně a načtená data neodpovídala skutečnosti je nutné zařídit opravu dat: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špatném názvu subjektu je třeba obrátit se na Registr ekonomických subjektů (</a:t>
            </a:r>
            <a:r>
              <a:rPr b="0" lang="cs-CZ" sz="18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www.czso.cz</a:t>
            </a: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Verdana"/>
              </a:rPr>
              <a:t>při chybě v adrese na UIR- ADR (Ministerstvo práce a sociálních věcí)</a:t>
            </a: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3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23D0B9-4857-4E26-A240-C4203DE9A1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329840" y="1064880"/>
            <a:ext cx="645804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Verdana"/>
              </a:rPr>
              <a:t>Záložka ŽADATEL PROJEKTU</a:t>
            </a:r>
            <a:endParaRPr b="1" lang="en-US" sz="2400" spc="-1" strike="noStrike">
              <a:solidFill>
                <a:srgbClr val="000000"/>
              </a:solidFill>
              <a:latin typeface="Helvetica CE"/>
            </a:endParaRPr>
          </a:p>
        </p:txBody>
      </p:sp>
      <p:sp>
        <p:nvSpPr>
          <p:cNvPr id="555" name="Zástupný symbol pro číslo snímk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7C3B77-F8AE-4A29-81D9-A8BC5F09D9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2" descr=""/>
          <p:cNvPicPr/>
          <p:nvPr/>
        </p:nvPicPr>
        <p:blipFill>
          <a:blip r:embed="rId1"/>
          <a:stretch/>
        </p:blipFill>
        <p:spPr>
          <a:xfrm>
            <a:off x="2075040" y="1757520"/>
            <a:ext cx="4713120" cy="3797280"/>
          </a:xfrm>
          <a:prstGeom prst="rect">
            <a:avLst/>
          </a:prstGeom>
          <a:ln w="0">
            <a:noFill/>
          </a:ln>
        </p:spPr>
      </p:pic>
      <p:sp>
        <p:nvSpPr>
          <p:cNvPr id="557" name="Obdélníkový popisek 5"/>
          <p:cNvSpPr/>
          <p:nvPr/>
        </p:nvSpPr>
        <p:spPr>
          <a:xfrm>
            <a:off x="6786720" y="1757520"/>
            <a:ext cx="2193840" cy="1957320"/>
          </a:xfrm>
          <a:prstGeom prst="wedgeRectCallout">
            <a:avLst>
              <a:gd name="adj1" fmla="val -85736"/>
              <a:gd name="adj2" fmla="val 55046"/>
            </a:avLst>
          </a:prstGeom>
          <a:solidFill>
            <a:srgbClr val="ffc000">
              <a:alpha val="50000"/>
            </a:srgbClr>
          </a:solidFill>
          <a:ln w="255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Verdana"/>
              </a:rPr>
              <a:t>Uveďte stručný popis cílové skupiny, se kterou máte zkušenosti. Jakým způsobem jste s cílovou skupinou pracovali a případně s jakým výsledkem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Elipsa 6"/>
          <p:cNvSpPr/>
          <p:nvPr/>
        </p:nvSpPr>
        <p:spPr>
          <a:xfrm>
            <a:off x="3289320" y="4143240"/>
            <a:ext cx="3726000" cy="511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1T17:09:51Z</dcterms:created>
  <dc:creator>Amos Amos</dc:creator>
  <dc:description/>
  <dc:language>en-US</dc:language>
  <cp:lastModifiedBy>ugh</cp:lastModifiedBy>
  <dcterms:modified xsi:type="dcterms:W3CDTF">2011-01-04T07:21:41Z</dcterms:modified>
  <cp:revision>75</cp:revision>
  <dc:subject/>
  <dc:title>Titulní strana – Titulek</dc:title>
</cp:coreProperties>
</file>